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D9FF-AEE3-4B91-9DE7-DB543FA63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23B4-1887-4585-9AA4-1311B328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053E-7766-443C-B467-C6C347A6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CCE6-EE52-496B-9A66-A4495E83C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515E-7E7D-42AF-8F96-55C3AD1C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9DB-7F42-41CC-8C81-BBD63F363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9FCC-4AE6-4E12-9D82-0FE8978A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8E3A-01EB-4935-943E-595BC50C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EDB-02F9-4278-ABA5-1404B1F48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608E-95CF-40AD-93E3-EC2DD08C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C1D7-454F-4415-9D86-7F635914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6207-05CD-46D8-9FDC-0A9BF80E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9D56-2B4A-48FE-9C3D-0DAC4A22D5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25BF-1AD0-49D8-84A1-FF085B7A71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5BD6-ACA8-4C26-8C10-244A88836C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Collaborative Relationships to Improve Student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burn Montgome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of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csimpson\Desktop\AUM_Tower_158_BLK_RGB.jpg"/>
          <p:cNvPicPr/>
          <p:nvPr/>
        </p:nvPicPr>
        <p:blipFill>
          <a:blip r:embed="rId1"/>
          <a:stretch/>
        </p:blipFill>
        <p:spPr>
          <a:xfrm>
            <a:off x="228600" y="52578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789-1A62-4525-A9C7-42B582FD4F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 Effective Collaborative Tea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812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. 6-12 can co-teach but cannot deliver first instruction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 the models of co-teaching with the needs of the students and the expertise of the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NCLB Reg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A3097-89B2-4F9C-AF57-DAC697EE5C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s of Collaborative Tea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teach, one hel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llel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ve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F7419-8587-45DC-B387-E16A59D806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One Teaching/ One Hel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5880" y="1295280"/>
            <a:ext cx="289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eacher plans and instructs, and one teacher provides adaptations and other support 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minimal joint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502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9A8C-7708-434E-A3F9-F9EC50781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Station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410080" y="1143000"/>
            <a:ext cx="350532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divide the responsibility of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otate on a predetermined schedule through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repeat instruction to each group that comes through; delivery may vary according to student nee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58943-6AAA-4EBB-8C2B-BE94BD40A1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Parallel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324480" y="1523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410080" y="1219320"/>
            <a:ext cx="3429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share responsibility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s split into heterogeneous groups, and each teacher instructs half on the sam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covered is the same, but methods of delivery may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E71-84C3-4240-BC6D-D661D8E2A8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Alternative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4120" y="1171440"/>
            <a:ext cx="38098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divide responsibilities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ity of students remain in a large group setting, but some students work in a small group for individualize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allows for highly individualized instruction to be off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AB80-CAB6-4514-B3E0-65D03C670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Team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62720" y="1219320"/>
            <a:ext cx="327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share responsibilities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ork as a team to introduce new content, work on developing skills, clarify information, and facilitate learning and classroom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1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5FC8-2829-4F51-B673-4F88C2509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Preserve the Continuum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dividuals with Disabilities Education Improvement Act of 2004, preserves the philosophy and provision of the least restrictive environment (LRE) and the continuum of serv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RE is an IEP team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AF93-F65C-4242-B34C-05423F1519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Insure Appropriate Class Size/ Casel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ors must be sensitive to how class size may affect student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sidering inclusion efforts, smaller is better 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educators must differentiate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FFD09-CDB1-459F-9061-0CA6C5141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Word about Caselo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umber of students on a special educator’s caseload directly affects the quality and effectiveness of the multiple roles of the special educato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8EB8-BA1A-466A-942E-1B5B886F43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monstrate best practices for secondary school leaders in facilitating cooperative teaching between special educators and general educa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D16BF-08FE-4BE3-80B1-70BCEBE70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Plan for Collab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iers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planning time is impe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ve sugg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rly Release/Late Arrival (requires extensive commitment on the part of the school district and commun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subs to release educators for collaboration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ive Scheduling of Teacher Planning Peri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rporate instructional strategies that facilitate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electronic resources (email, Wiki’s, Google.do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D2C92-F487-4672-A78A-2B214A50AC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ample Lesson Plann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teacher pointing"/>
          <p:cNvPicPr/>
          <p:nvPr/>
        </p:nvPicPr>
        <p:blipFill>
          <a:blip r:embed="rId1"/>
          <a:stretch/>
        </p:blipFill>
        <p:spPr>
          <a:xfrm>
            <a:off x="2209680" y="2286000"/>
            <a:ext cx="5124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6852-50FF-49A3-B96E-96DF525C13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10185" t="11787" r="52779" b="12450"/>
          <a:stretch/>
        </p:blipFill>
        <p:spPr>
          <a:xfrm>
            <a:off x="762120" y="228600"/>
            <a:ext cx="754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26F11-709C-4D28-A91B-13C3A4058C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sampleLP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624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2209680" y="152280"/>
            <a:ext cx="5105520" cy="36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09F7-6B4A-4772-95D6-CA7A0D03D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10345" t="15293" r="50862" b="12941"/>
          <a:stretch/>
        </p:blipFill>
        <p:spPr>
          <a:xfrm>
            <a:off x="685800" y="609480"/>
            <a:ext cx="807732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200400" y="0"/>
            <a:ext cx="289548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ker Planning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10C8E-5450-4E05-89AC-6C34D011F9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11112" t="11787" r="50928" b="12450"/>
          <a:stretch/>
        </p:blipFill>
        <p:spPr>
          <a:xfrm>
            <a:off x="1447920" y="304920"/>
            <a:ext cx="6324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B28C2-1FFF-4D90-AAEA-58B036566A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tools (blogs, Wikis, electronic bulletin boards, etc.) can be a useful for interacting with other teachers by u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adshe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 tim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room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8008-8154-4873-B69A-12A807D1F4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57200" y="1752480"/>
            <a:ext cx="8077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tools al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eople viewing a document but only one can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numbers of people viewing and contributing to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eople viewing and contributing to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tool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docs (collabor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ho.com (assess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Text/Twitter.com (collaborative/classroom manag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2manage.com (collaborative/calend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works.com/wikispaces.com/wetpaint.com (collaborativ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D11B-6A28-434B-A1A3-8669013D4A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ick and Easy Schedule for Collaborative Tea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in </a:t>
            </a:r>
            <a:r>
              <a:rPr b="0" lang="en-US" sz="2600" spc="-1" strike="noStrike">
                <a:solidFill>
                  <a:srgbClr val="ff6600"/>
                </a:solidFill>
                <a:latin typeface="Calibri"/>
              </a:rPr>
              <a:t>Review/Introd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New Cont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 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Guided Pract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Independent Pract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Closure/Feedback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CC34-7C33-44C4-8923-68DD32637F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answer-boy-color"/>
          <p:cNvPicPr/>
          <p:nvPr/>
        </p:nvPicPr>
        <p:blipFill>
          <a:blip r:embed="rId1"/>
          <a:stretch/>
        </p:blipFill>
        <p:spPr>
          <a:xfrm>
            <a:off x="3443400" y="1714680"/>
            <a:ext cx="225720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csimpson\Desktop\AUM_Tower_158_BLK_RGB.jpg"/>
          <p:cNvPicPr/>
          <p:nvPr/>
        </p:nvPicPr>
        <p:blipFill>
          <a:blip r:embed="rId2"/>
          <a:stretch/>
        </p:blipFill>
        <p:spPr>
          <a:xfrm>
            <a:off x="228600" y="5105520"/>
            <a:ext cx="1981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FDFFE-88F7-4E13-86F1-659E5B890A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CLB is defining the L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QT issue in Secondar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tegories of dis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ho participate in statewide assessment, ie., SAT-10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ho participate in the A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Development in Collaborative Tea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EFA1C-CB41-46AB-92F5-C27F9D4072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Collaborative Teache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ertified K-6 and 6-12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348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ed to provide “supplementary aids, services, and support” to students with mild to moderate dis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 work includes multiple courses in the general education curric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ve Teacher K-6 graduates Highly Qualified to deliver first instruction and serve as a Consultative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ve Teacher 6-12 graduates highly trained as a Consultative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AA66-6909-4819-89B3-4A2C475E99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s of Proactive Administ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or the collaborativ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ppropriate resources of time, materials, and profession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nd implement expectations and outcomes so all concerned will understand their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2836-609E-4DF0-94B0-9576E10046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les of the Second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aborative Teach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70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to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mana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and behavior strategy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9760" y="1981080"/>
            <a:ext cx="4037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 to paraprofessio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ications &amp;  accommo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-te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7117-4AFD-4028-82E5-66C8E5EEC1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001000" cy="312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 Strategies that Promote Collaborative Teaching in the Secondary School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EAFD-D13B-4B54-A5EC-FE1E400D76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Design an Inclusive School Commun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ate a climate of collaboration among all faculty and sta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ild an environment that reflects the needs of all stud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pect and celebrate diver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3234F-8BDA-4AE8-9947-179B08071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’t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sign an Inclusive School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ward common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e academics and extracurricular activities to create opportunities for promoting community among the administration, faculty, staff, students, and par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positively and openly about what the school is doing for stud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1:29:25Z</dcterms:created>
  <dc:creator>Carl</dc:creator>
  <dc:description/>
  <dc:language>en-US</dc:language>
  <cp:lastModifiedBy>Kellie Shumack</cp:lastModifiedBy>
  <dcterms:modified xsi:type="dcterms:W3CDTF">2009-06-23T18:49:51Z</dcterms:modified>
  <cp:revision>23</cp:revision>
  <dc:subject/>
  <dc:title>Slide 1</dc:title>
</cp:coreProperties>
</file>