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C06-FF25-401A-A508-06DF124B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EFC-AFF3-4746-A04C-6D6CFDCC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7FE-7AAE-48A4-A0B9-E212E59B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639-CF3F-4B46-9FA4-5D3979E7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712-F565-4EBD-BC84-A54E9BD6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11B-6367-485B-86DA-A316EF59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C7D-46EC-4588-8C57-C798FC86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C2A-74F6-4AF1-A741-3D4232CD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A54-AF8E-4C90-B983-DA06008B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4DA-92F0-4FE3-8BD2-DBE01E59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AD4-989A-4FF1-8225-24F18574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908-50AD-470C-84CD-88AF4636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6790-4C66-4F2A-A780-CFA25066AF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4E65-8F9E-491A-AAD3-98B673967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FAFA-6EE8-4415-B4AA-E3E5AAC89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ilding Collaborative Relationships to Improve Student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burn Montgome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ool of 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csimpson\Desktop\AUM_Tower_158_BLK_RGB.jpg"/>
          <p:cNvPicPr/>
          <p:nvPr/>
        </p:nvPicPr>
        <p:blipFill>
          <a:blip r:embed="rId1"/>
          <a:stretch/>
        </p:blipFill>
        <p:spPr>
          <a:xfrm>
            <a:off x="228600" y="525780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7E6E-30D7-4FBA-BE65-52CEDE766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del Effective Collaborative Teac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8120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. 6-12 can co-teach but cannot deliver first instruction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ch the models of co-teaching with the needs of the students and the expertise of the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NCLB Reg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D543-899B-4689-B4A2-AED251336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s of Collaborative Tea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teach, one hel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on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llel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ernative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996B-9B7B-4453-8EA8-A20BD76E7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One Teaching/ One Hel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095880" y="1295280"/>
            <a:ext cx="289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teacher plans and instructs, and one teacher provides adaptations and other support as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minimal joint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5029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AD60-CAAB-43B2-8903-16730F60E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Station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410080" y="1143000"/>
            <a:ext cx="350532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divide the responsibility of planning an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rotate on a predetermined schedule through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repeat instruction to each group that comes through; delivery may vary according to student nee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724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1DDB-3B25-4290-9EFC-7FD8906D5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Parallel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324480" y="1523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410080" y="1219320"/>
            <a:ext cx="3429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share responsibility for planning an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is split into heterogeneous groups, and each teacher instructs half on the sam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covered is the same, but methods of delivery may dif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810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4985-1EB8-44D3-BA21-62C966B0A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Alternative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334120" y="1171440"/>
            <a:ext cx="380988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divide responsibilities for planning an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jority of students remain in a large group setting, but some students work in a small group for individualize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allows for highly individualized instruction to be off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3886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2F76-9F11-4264-B15F-17F81A4AB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Team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62720" y="1219320"/>
            <a:ext cx="327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share responsibilities for planning an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ork as a team to introduce new content, work on developing skills, clarify information, and facilitate learning and classroom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19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856A-25CB-482E-BFB4-32C43645A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Preserve the Continuum of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dividuals with Disabilities Education Improvement Act of 2004, preserves the philosophy and provision of the least restrictive environment (LRE) and the continuum of servi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RE is an IEP team dec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AAA3-CB29-4C55-9D31-E5141BB02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. Insure Appropriate Class Size/ Caseloa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ors must be sensitive to how class size may affect student achie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considering inclusion efforts, smaller is better B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educators must differentiate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60B5-0C4F-4242-B894-FB5B18FF7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Word about Caselo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number of students on a special educator’s caseload directly affects the quality and effectiveness of the multiple roles of the special educato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DE0E-5143-4680-A995-ADCA48E73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monstrate best practices for secondary school leaders in facilitating cooperative teaching between special educators and general educato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7342-2536-449A-9677-5BBD96566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Plan for Collab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iers ex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d planning time is impe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ve sugg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rly Release/Late Arrival (requires extensive commitment on the part of the school district and communi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of subs to release educators for collaboration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ntive Scheduling of Teacher Planning Perio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orporate instructional strategies that facilitate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of electronic resources (email, Wiki’s, Google.do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BDFC-CA56-4EDD-8ADC-39D0BAB2B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284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ample Lesson Planner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teacher pointing"/>
          <p:cNvPicPr/>
          <p:nvPr/>
        </p:nvPicPr>
        <p:blipFill>
          <a:blip r:embed="rId1"/>
          <a:stretch/>
        </p:blipFill>
        <p:spPr>
          <a:xfrm>
            <a:off x="2209680" y="2286000"/>
            <a:ext cx="51246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506F-D5CD-4600-BEB8-9D7E028F9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10185" t="11787" r="52779" b="12450"/>
          <a:stretch/>
        </p:blipFill>
        <p:spPr>
          <a:xfrm>
            <a:off x="762120" y="228600"/>
            <a:ext cx="754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6F64-5E6B-4EB8-970B-F4FDEE1BB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sampleLP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6248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2209680" y="152280"/>
            <a:ext cx="5105520" cy="3682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Pyra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3109-6D52-4D52-B98B-5B9C0D4C2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rcRect l="10345" t="15293" r="50862" b="12941"/>
          <a:stretch/>
        </p:blipFill>
        <p:spPr>
          <a:xfrm>
            <a:off x="685800" y="609480"/>
            <a:ext cx="8077320" cy="6019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3200400" y="0"/>
            <a:ext cx="2895480" cy="39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ker Planning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8476-49AE-4C08-A893-F68D44670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11112" t="11787" r="50928" b="12450"/>
          <a:stretch/>
        </p:blipFill>
        <p:spPr>
          <a:xfrm>
            <a:off x="1447920" y="304920"/>
            <a:ext cx="6324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D63A-2EFF-4A5B-BE8E-7A0324561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y tools (blogs, Wikis, electronic bulletin boards, etc.) can be a useful for interacting with other teachers by us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adshe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ative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ative time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end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room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6310-2DD7-44DC-ABEB-E99AD567E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57200" y="1752480"/>
            <a:ext cx="80773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tools al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people viewing a document but only one can con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numbers of people viewing and contributing to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people viewing and contributing to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tool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docs (collabor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ho.com (assess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Text/Twitter.com (collaborative/classroom manage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2manage.com (collaborative/calend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works.com/wikispaces.com/wetpaint.com (collaborative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ECF4-E4A2-4599-81D9-A32BF1C44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Quick and Easy Schedule for Collaborative Teac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min </a:t>
            </a:r>
            <a:r>
              <a:rPr b="0" lang="en-US" sz="2600" spc="-1" strike="noStrike">
                <a:solidFill>
                  <a:srgbClr val="ff6600"/>
                </a:solidFill>
                <a:latin typeface="Calibri"/>
              </a:rPr>
              <a:t>Review/Introd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min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New Cont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 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min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Guided Pract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 min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Independent Pract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min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Closure/Feedback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A392-D131-47B2-ABA4-6B462E9F6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answer-boy-color"/>
          <p:cNvPicPr/>
          <p:nvPr/>
        </p:nvPicPr>
        <p:blipFill>
          <a:blip r:embed="rId1"/>
          <a:stretch/>
        </p:blipFill>
        <p:spPr>
          <a:xfrm>
            <a:off x="3443400" y="1714680"/>
            <a:ext cx="225720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csimpson\Desktop\AUM_Tower_158_BLK_RGB.jpg"/>
          <p:cNvPicPr/>
          <p:nvPr/>
        </p:nvPicPr>
        <p:blipFill>
          <a:blip r:embed="rId2"/>
          <a:stretch/>
        </p:blipFill>
        <p:spPr>
          <a:xfrm>
            <a:off x="228600" y="5105520"/>
            <a:ext cx="1981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0F93-CB4B-418D-A270-E1CEB419F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CLB is defining the L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QT issue in Secondary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tegories of dis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who participate in statewide assessment, ie., SAT-10,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who participate in the AA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Development in Collaborative Tea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C68D-8F27-492E-8F16-41D37EBE7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 Collaborative Teacher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ertified K-6 and 6-12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828440"/>
            <a:ext cx="8348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ned to provide “supplementary aids, services, and support” to students with mild to moderate dis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rse work includes multiple courses in the general education curricul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aborative Teacher K-6 graduates Highly Qualified to deliver first instruction and serve as a Consultative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aborative Teacher 6-12 graduates highly trained as a Consultative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BB9F-A22A-4A3C-8852-1EC70C9B1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es of Proactive Administ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for the collaborative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appropriate resources of time, materials, and profession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nd implement expectations and outcomes so all concerned will understand their 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7AF3-E4D5-4BAC-9ED4-11FFF9944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les of the Seconda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aborative Teach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70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to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mana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and behavior strategy i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9760" y="1981080"/>
            <a:ext cx="4037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ion to paraprofessio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ifications &amp;  accommo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-tea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1858-5D6D-452E-B746-778363857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8001000" cy="312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5 Strategies that Promote Collaborative Teaching in the Secondary School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362C-9E44-466E-B1AD-06FCD97C8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Design an Inclusive School Commun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reate a climate of collaboration among all faculty and staf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ild an environment that reflects the needs of all stud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pect and celebrate divers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BB53-27D8-4008-A289-2D6521DFD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on’t)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sign an Inclusive School Commun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oward common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lize academics and extracurricular activities to create opportunities for promoting community among the administration, faculty, staff, students, and par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positively and openly about what the school is doing for stud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21:29:25Z</dcterms:created>
  <dc:creator>Carl</dc:creator>
  <dc:description/>
  <dc:language>en-US</dc:language>
  <cp:lastModifiedBy>Kellie Shumack</cp:lastModifiedBy>
  <dcterms:modified xsi:type="dcterms:W3CDTF">2009-06-23T18:49:51Z</dcterms:modified>
  <cp:revision>23</cp:revision>
  <dc:subject/>
  <dc:title>Slide 1</dc:title>
</cp:coreProperties>
</file>