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443-1FC2-4B3C-81CB-F00268AF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0F3-8FEF-4E81-846E-F91333CB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445-6C88-4C75-8398-47C8A290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22F-4013-48D5-9824-8CC94334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931-6FB2-4A11-9D62-D3D64EB4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0309-C6EE-432B-8C13-90505715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2E4B-FF41-4064-BB61-6769C64F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FBE-8F60-41AA-888E-DB1BBC59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1DC-0FA5-4C2F-8B9B-1FFACEA3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1DA-6CF0-497E-9B3A-4979620E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051-EFE8-4EAF-8095-25485105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E08-2C8A-4B9A-8142-C7DD33D5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CA34-BCDE-401D-BD34-AC5D0D34B7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17CB-7393-4A98-9C7C-979161B6B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D2CD-1936-4A5B-AE4E-3C6ED6513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ilding Collaborative Relationships to Improve Student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burn Montgome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ool of E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csimpson\Desktop\AUM_Tower_158_BLK_RGB.jpg"/>
          <p:cNvPicPr/>
          <p:nvPr/>
        </p:nvPicPr>
        <p:blipFill>
          <a:blip r:embed="rId1"/>
          <a:stretch/>
        </p:blipFill>
        <p:spPr>
          <a:xfrm>
            <a:off x="228600" y="525780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CEFC-03BA-4F88-B83A-B614869EC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del Effective Collaborative Teac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8120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. 6-12 can co-teach but cannot deliver first instruction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ch the models of co-teaching with the needs of the students and the expertise of the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NCLB Reg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DB15-C84B-44FF-8944-70E7C4990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s of Collaborative Tea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teach, one hel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on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llel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ernative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41F3-BB99-4F36-BC3A-6CD4963D8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One Teaching/ One Hel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095880" y="1295280"/>
            <a:ext cx="289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teacher plans and instructs, and one teacher provides adaptations and other support as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minimal joint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5029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C0D1-0B2E-40E3-9796-8CE9C9B94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Station Tea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410080" y="1143000"/>
            <a:ext cx="350532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divide the responsibility of planning an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rotate on a predetermined schedule through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repeat instruction to each group that comes through; delivery may vary according to student nee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724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41A3-0748-4AC7-8A5A-6F92AF6FA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Parallel Tea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324480" y="1523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410080" y="1219320"/>
            <a:ext cx="3429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share responsibility for planning an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is split into heterogeneous groups, and each teacher instructs half on the sam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covered is the same, but methods of delivery may dif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810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5932-661F-41C3-A482-BF5797F0F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Alternative Tea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334120" y="1171440"/>
            <a:ext cx="380988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divide responsibilities for planning an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jority of students remain in a large group setting, but some students work in a small group for individualize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allows for highly individualized instruction to be off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3886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BE8E-0B1B-4D5D-8759-A84D24013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Team Tea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62720" y="1219320"/>
            <a:ext cx="327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share responsibilities for planning an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ork as a team to introduce new content, work on developing skills, clarify information, and facilitate learning and classroom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4190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1A2B-CAC2-4C4D-A754-2F4E549EC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Preserve the Continuum of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dividuals with Disabilities Education Improvement Act of 2004, preserves the philosophy and provision of the least restrictive environment (LRE) and the continuum of servi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RE is an IEP team dec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7E77-B35C-472A-B74C-DE6DB89F9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. Insure Appropriate Class Size/ Caseloa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ors must be sensitive to how class size may affect student achie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considering inclusion efforts, smaller is better B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educators must differentiate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6BCF-4E99-49EF-B84E-9BFACFFFE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Word about Caselo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number of students on a special educator’s caseload directly affects the quality and effectiveness of the multiple roles of the special educato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6458-FE7A-4FA8-97FD-31F77C302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monstrate best practices for secondary school leaders in facilitating cooperative teaching between special educators and general educato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D08E-06A3-4FA7-BD03-4CBA555D3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Plan for Collab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riers ex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d planning time is impe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ve sugg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rly Release/Late Arrival (requires extensive commitment on the part of the school district and communi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of subs to release educators for collaboration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ntive Scheduling of Teacher Planning Perio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orporate instructional strategies that facilitate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of electronic resources (email, Wiki’s, Google.doc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01A2-067B-4BFA-858B-3E62C4A9B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284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ample Lesson Planner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teacher pointing"/>
          <p:cNvPicPr/>
          <p:nvPr/>
        </p:nvPicPr>
        <p:blipFill>
          <a:blip r:embed="rId1"/>
          <a:stretch/>
        </p:blipFill>
        <p:spPr>
          <a:xfrm>
            <a:off x="2209680" y="2286000"/>
            <a:ext cx="51246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0A14-3024-4C10-A564-AC944D124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10185" t="11787" r="52779" b="12450"/>
          <a:stretch/>
        </p:blipFill>
        <p:spPr>
          <a:xfrm>
            <a:off x="762120" y="228600"/>
            <a:ext cx="754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2FCF-8083-4E93-9B08-9E58B0B73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sampleLP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6248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2209680" y="152280"/>
            <a:ext cx="5105520" cy="3682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 Pyra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2A1F-B6F0-470C-971F-AA00B8A70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rcRect l="10345" t="15293" r="50862" b="12941"/>
          <a:stretch/>
        </p:blipFill>
        <p:spPr>
          <a:xfrm>
            <a:off x="685800" y="609480"/>
            <a:ext cx="8077320" cy="6019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3200400" y="0"/>
            <a:ext cx="2895480" cy="39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ker Planning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7864-2DB8-49A8-9283-4A29A3020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11112" t="11787" r="50928" b="12450"/>
          <a:stretch/>
        </p:blipFill>
        <p:spPr>
          <a:xfrm>
            <a:off x="1447920" y="304920"/>
            <a:ext cx="6324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A5D3-99AE-4625-8891-DDB75C1A5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y tools (blogs, Wikis, electronic bulletin boards, etc.) can be a useful for interacting with other teachers by us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adshe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rative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rative time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end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room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9CA7-6CC7-4A5D-B07F-E087F1382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57200" y="1752480"/>
            <a:ext cx="80773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tools al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people viewing a document but only one can con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numbers of people viewing and contributing to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people viewing and contributing to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tool 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 docs (collabor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ho.com (assess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Text/Twitter.com (collaborative/classroom manage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2manage.com (collaborative/calend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works.com/wikispaces.com/wetpaint.com (collaborative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B826-805D-42BB-8C4D-4C46B46A8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Quick and Easy Schedule for Collaborative Teac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min </a:t>
            </a:r>
            <a:r>
              <a:rPr b="0" lang="en-US" sz="2600" spc="-1" strike="noStrike">
                <a:solidFill>
                  <a:srgbClr val="ff6600"/>
                </a:solidFill>
                <a:latin typeface="Calibri"/>
              </a:rPr>
              <a:t>Review/Introdu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min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New Cont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 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min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Guided Pract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 min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Independent Pract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min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Closure/Feedback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6470-B1CB-4D07-9FE5-044B9C87D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answer-boy-color"/>
          <p:cNvPicPr/>
          <p:nvPr/>
        </p:nvPicPr>
        <p:blipFill>
          <a:blip r:embed="rId1"/>
          <a:stretch/>
        </p:blipFill>
        <p:spPr>
          <a:xfrm>
            <a:off x="3443400" y="1714680"/>
            <a:ext cx="225720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csimpson\Desktop\AUM_Tower_158_BLK_RGB.jpg"/>
          <p:cNvPicPr/>
          <p:nvPr/>
        </p:nvPicPr>
        <p:blipFill>
          <a:blip r:embed="rId2"/>
          <a:stretch/>
        </p:blipFill>
        <p:spPr>
          <a:xfrm>
            <a:off x="228600" y="5105520"/>
            <a:ext cx="1981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FCC9-B8B4-4F2A-B2DB-6D01145F6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CLB is defining the L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QT issue in Secondary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tegories of dis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who participate in statewide assessment, ie., SAT-10,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who participate in the AA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Development in Collaborative Tea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3C09-4692-45AB-8EC3-ADD0BE27A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 Collaborative Teacher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ertified K-6 and 6-12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828440"/>
            <a:ext cx="8348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ined to provide “supplementary aids, services, and support” to students with mild to moderate dis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rse work includes multiple courses in the general education curricul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aborative Teacher K-6 graduates Highly Qualified to deliver first instruction and serve as a Consultative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aborative Teacher 6-12 graduates highly trained as a Consultative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9195-E869-4E27-AED7-08190E2BA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es of Proactive Administ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for the collaborative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appropriate resources of time, materials, and profession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nd implement expectations and outcomes so all concerned will understand their 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C540-9991-4449-84FC-802112269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les of the Seconda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aborative Teach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70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to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mana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and behavior strategy i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9760" y="1981080"/>
            <a:ext cx="4037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ion to paraprofessio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ifications &amp;  accommo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-tea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34C0-3062-42D2-9389-E813360A4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1523520"/>
            <a:ext cx="8001000" cy="312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5 Strategies that Promote Collaborative Teaching in the Secondary School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1774-6D2B-412E-A2D5-383C90A0E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Design an Inclusive School Commun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reate a climate of collaboration among all faculty and staf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ild an environment that reflects the needs of all stude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pect and celebrate divers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0F0A-74D4-4EAC-9B0B-2945841E5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on’t)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sign an Inclusive School Commun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toward common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ilize academics and extracurricular activities to create opportunities for promoting community among the administration, faculty, staff, students, and par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k positively and openly about what the school is doing for stud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21:29:25Z</dcterms:created>
  <dc:creator>Carl</dc:creator>
  <dc:description/>
  <dc:language>en-US</dc:language>
  <cp:lastModifiedBy>Kellie Shumack</cp:lastModifiedBy>
  <dcterms:modified xsi:type="dcterms:W3CDTF">2009-06-23T18:49:51Z</dcterms:modified>
  <cp:revision>23</cp:revision>
  <dc:subject/>
  <dc:title>Slide 1</dc:title>
</cp:coreProperties>
</file>