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CB1D-AF60-4F7D-8032-B2C3AADEC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AC24-B916-461C-A445-1195385A2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FFBF-6412-4FBA-9659-0DC85C169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ADD4-9746-41CB-B840-79B8D6954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84A2-C33F-4EBD-92BA-D79ACE96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D9AC-9DF5-4785-9AE2-3720BD346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3E73-9074-486D-A4DD-5241A4887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D0C1-D5ED-4F5C-BF1A-04300554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38AB-6FB5-4A8E-811F-7CC73904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234E-950D-4F45-8BA5-685BD781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D0D3-03D1-4AC2-B49B-0DA51C3A0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2570-09D5-4083-A3E4-767277FC6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4E12-A219-4AC4-B106-98DB05828FE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E0CB-8E8A-47E3-B9FD-C405437151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92CA-6FED-4CCA-B5D1-BE3E8954FE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Building Collaborative Relationships to Improve Student Lear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esented b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uburn Montgomery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chool of Educ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C:\Users\csimpson\Desktop\AUM_Tower_158_BLK_RGB.jpg"/>
          <p:cNvPicPr/>
          <p:nvPr/>
        </p:nvPicPr>
        <p:blipFill>
          <a:blip r:embed="rId1"/>
          <a:stretch/>
        </p:blipFill>
        <p:spPr>
          <a:xfrm>
            <a:off x="228600" y="5257800"/>
            <a:ext cx="19810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E29E7-DCA3-48C3-BF7B-0F79809E6C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1430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odel Effective Collaborative Teach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640" y="2133360"/>
            <a:ext cx="81201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l. 6-12 can co-teach but cannot deliver first instruction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ch the models of co-teaching with the needs of the students and the expertise of the teac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* NCLB Reg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08B7-8B78-4289-B8BB-B28460688B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s of Collaborative Tea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teach, one hel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ation te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allel te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ternative te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am teac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FDF9B-E15A-4F97-858D-6BBA425798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6600"/>
                </a:solidFill>
                <a:uFillTx/>
                <a:latin typeface="Calibri"/>
              </a:rPr>
              <a:t>One Teaching/ One Help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095880" y="1295280"/>
            <a:ext cx="2895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e teacher plans and instructs, and one teacher provides adaptations and other support as neede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quires minimal joint plan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50292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D18B7-395C-4887-8DF1-6BB3EF5872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6600"/>
                </a:solidFill>
                <a:uFillTx/>
                <a:latin typeface="Calibri"/>
              </a:rPr>
              <a:t>Station Teach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5410080" y="1143000"/>
            <a:ext cx="3505320" cy="56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divide the responsibility of planning and i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rotate on a predetermined schedule through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repeat instruction to each group that comes through; delivery may vary according to student need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4724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603BD-2E2C-4A89-960E-AE395A619E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6600"/>
                </a:solidFill>
                <a:uFillTx/>
                <a:latin typeface="Calibri"/>
              </a:rPr>
              <a:t>Parallel Teach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6324480" y="152388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410080" y="1219320"/>
            <a:ext cx="3429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share responsibility for planning and i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 is split into heterogeneous groups, and each teacher instructs half on the same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 covered is the same, but methods of delivery may diff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38102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4739B-E73D-45CA-A12B-B620EFD18A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6600"/>
                </a:solidFill>
                <a:uFillTx/>
                <a:latin typeface="Calibri"/>
              </a:rPr>
              <a:t>Alternative Teach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5334120" y="1171440"/>
            <a:ext cx="380988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divide responsibilities for planning and i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jority of students remain in a large group setting, but some students work in a small group for individualized i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ach allows for highly individualized instruction to be offe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388620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A7B4A-2EE7-4933-AB16-979FC815F3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6600"/>
                </a:solidFill>
                <a:uFillTx/>
                <a:latin typeface="Calibri"/>
              </a:rPr>
              <a:t>Team Teach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5562720" y="1219320"/>
            <a:ext cx="327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share responsibilities for planning and instru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work as a team to introduce new content, work on developing skills, clarify information, and facilitate learning and classroom manag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41907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78776-5211-4914-9144-94F8CE7BAC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3. Preserve the Continuum of Serv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dividuals with Disabilities Education Improvement Act of 2004, preserves the philosophy and provision of the least restrictive environment (LRE) and the continuum of servic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RE is an IEP team deci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7D72-9562-4EFA-951A-C88E0D5A36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4. Insure Appropriate Class Size/ Caseloa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ministrators must be sensitive to how class size may affect student achiev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n considering inclusion efforts, smaller is better B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eneral educators must differentiate i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D38DA-5FAC-4C0C-ABE4-ABB8DC29BD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 Word about Caselo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 number of students on a special educator’s caseload directly affects the quality and effectiveness of the multiple roles of the special educator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7F1E-6C41-45DE-8A9B-21DEFF09A3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bj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Demonstrate best practices for secondary school leaders in facilitating cooperative teaching between special educators and general educator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AAFC0-6C3B-4096-B8F2-D6A6D46FBB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5. Plan for Collabo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rriers ex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hared planning time is imper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Five sugges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arly Release/Late Arrival (requires extensive commitment on the part of the school district and community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 of subs to release educators for collaboration effor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ventive Scheduling of Teacher Planning Perio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corporate instructional strategies that facilitate plann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 of electronic resources (email, Wiki’s, Google.doc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9884-F68B-4078-820E-47E580FB8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00"/>
          </a:solidFill>
          <a:ln w="2844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Sample Lesson Planner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5" descr="teacher pointing"/>
          <p:cNvPicPr/>
          <p:nvPr/>
        </p:nvPicPr>
        <p:blipFill>
          <a:blip r:embed="rId1"/>
          <a:stretch/>
        </p:blipFill>
        <p:spPr>
          <a:xfrm>
            <a:off x="2209680" y="2286000"/>
            <a:ext cx="512460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A8A0-FB63-4D24-B527-16DD5BB864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1"/>
          <a:srcRect l="10185" t="11787" r="52779" b="12450"/>
          <a:stretch/>
        </p:blipFill>
        <p:spPr>
          <a:xfrm>
            <a:off x="762120" y="228600"/>
            <a:ext cx="75438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BC56A-3DFF-463D-92EB-BD3C01E63C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sampleLP"/>
          <p:cNvPicPr/>
          <p:nvPr/>
        </p:nvPicPr>
        <p:blipFill>
          <a:blip r:embed="rId1"/>
          <a:stretch/>
        </p:blipFill>
        <p:spPr>
          <a:xfrm>
            <a:off x="762120" y="609480"/>
            <a:ext cx="7543800" cy="62485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2209680" y="152280"/>
            <a:ext cx="5105520" cy="3682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anning Pyram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10DC6-A2BB-46ED-A6D1-9AB2AA4DF0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rcRect l="10345" t="15293" r="50862" b="12941"/>
          <a:stretch/>
        </p:blipFill>
        <p:spPr>
          <a:xfrm>
            <a:off x="685800" y="609480"/>
            <a:ext cx="8077320" cy="601992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3200400" y="0"/>
            <a:ext cx="2895480" cy="398880"/>
          </a:xfrm>
          <a:prstGeom prst="rect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ker Planning 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5388-41EA-45A6-9783-5B01571F21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rcRect l="11112" t="11787" r="50928" b="12450"/>
          <a:stretch/>
        </p:blipFill>
        <p:spPr>
          <a:xfrm>
            <a:off x="1447920" y="304920"/>
            <a:ext cx="632448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D2C1-4EE5-4ED1-9764-B858BC5A81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chnology To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1" marL="668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echnology tools (blogs, Wikis, electronic bulletin boards, etc.) can be a useful for interacting with other teachers by using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readshe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rrative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sson pla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rrative timel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lenda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sess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assroom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24C3-8D7B-479C-BAE2-B21D940321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chnology Too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457200" y="1752480"/>
            <a:ext cx="8077320" cy="45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y tools allow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people viewing a document but only one can con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mited numbers of people viewing and contributing to the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ltiple people viewing and contributing to the docu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y tool 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ogle docs (collabora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oho.com (assess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Text/Twitter.com (collaborative/classroom managemen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2manage.com (collaborative/calenda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bworks.com/wikispaces.com/wetpaint.com (collaborative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E447D-3FBF-486E-8AD2-D8E77863223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Quick and Easy Schedule for Collaborative Teach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62012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ass Peri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 min </a:t>
            </a:r>
            <a:r>
              <a:rPr b="0" lang="en-US" sz="2600" spc="-1" strike="noStrike">
                <a:solidFill>
                  <a:srgbClr val="ff6600"/>
                </a:solidFill>
                <a:latin typeface="Calibri"/>
              </a:rPr>
              <a:t>Review/Introduc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5 min </a:t>
            </a:r>
            <a:r>
              <a:rPr b="0" lang="en-US" sz="2800" spc="-1" strike="noStrike">
                <a:solidFill>
                  <a:srgbClr val="ff6600"/>
                </a:solidFill>
                <a:latin typeface="Calibri"/>
              </a:rPr>
              <a:t>New Conten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n 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10 min </a:t>
            </a:r>
            <a:r>
              <a:rPr b="0" lang="en-US" sz="2800" spc="-1" strike="noStrike">
                <a:solidFill>
                  <a:srgbClr val="ff6600"/>
                </a:solidFill>
                <a:latin typeface="Calibri"/>
              </a:rPr>
              <a:t>Guided Practi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p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0 min </a:t>
            </a:r>
            <a:r>
              <a:rPr b="0" lang="en-US" sz="2800" spc="-1" strike="noStrike">
                <a:solidFill>
                  <a:srgbClr val="ff6600"/>
                </a:solidFill>
                <a:latin typeface="Calibri"/>
              </a:rPr>
              <a:t>Independent Practi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ot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5 min </a:t>
            </a:r>
            <a:r>
              <a:rPr b="0" lang="en-US" sz="2800" spc="-1" strike="noStrike">
                <a:solidFill>
                  <a:srgbClr val="ff6600"/>
                </a:solidFill>
                <a:latin typeface="Calibri"/>
              </a:rPr>
              <a:t>Closure/Feedback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i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B485-14CC-4288-A8F1-7B712591BA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cuss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Picture 4" descr="answer-boy-color"/>
          <p:cNvPicPr/>
          <p:nvPr/>
        </p:nvPicPr>
        <p:blipFill>
          <a:blip r:embed="rId1"/>
          <a:stretch/>
        </p:blipFill>
        <p:spPr>
          <a:xfrm>
            <a:off x="3443400" y="1714680"/>
            <a:ext cx="2257200" cy="3429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C:\Users\csimpson\Desktop\AUM_Tower_158_BLK_RGB.jpg"/>
          <p:cNvPicPr/>
          <p:nvPr/>
        </p:nvPicPr>
        <p:blipFill>
          <a:blip r:embed="rId2"/>
          <a:stretch/>
        </p:blipFill>
        <p:spPr>
          <a:xfrm>
            <a:off x="228600" y="5105520"/>
            <a:ext cx="198108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EADC-86DD-44B0-9989-28F93E1686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Iss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57040" y="1600200"/>
            <a:ext cx="6629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CLB is defining the L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ountabi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QT issue in Secondary Scho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tegories of disabil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ents who participate in statewide assessment, ie., SAT-10, etc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tudents who participate in the AA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fessional Development in Collaborative Tea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B04E-79EC-47DD-BA22-EABB51CDDA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21932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The Collaborative Teacher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Calibri"/>
              </a:rPr>
              <a:t>Certified K-6 and 6-12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828440"/>
            <a:ext cx="83487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ined to provide “supplementary aids, services, and support” to students with mild to moderate disabilit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urse work includes multiple courses in the general education curricul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laborative Teacher K-6 graduates Highly Qualified to deliver first instruction and serve as a Consultative Tea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llaborative Teacher 6-12 graduates highly trained as a Consultative Tea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6CBB-E1A1-4641-B71E-B49B2940B3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oles of Proactive Administ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pport for the collaborative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e appropriate resources of time, materials, and professional develop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velop and implement expectations and outcomes so all concerned will understand their ro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5017-63A5-43A8-9270-EB08511C82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oles of the Secondary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ollaborative Teacher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3704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me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toring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se managemen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earning and behavior strategy instru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sul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9760" y="1981080"/>
            <a:ext cx="403704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rection to paraprofession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ifications &amp;  accommod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-tea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48B0-2659-415B-AABB-B68F948DF2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1523520"/>
            <a:ext cx="8001000" cy="31244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5 Strategies that Promote Collaborative Teaching in the Secondary School</a:t>
            </a:r>
            <a:br>
              <a:rPr sz="48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DAF99-7569-4911-979E-4CDB558EC2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610480" cy="11430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. Design an Inclusive School Communit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2209320"/>
            <a:ext cx="75438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reate a climate of collaboration among all faculty and staf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uild an environment that reflects the needs of all student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Respect and celebrate divers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308F6-CED9-4FEC-BB00-EBA7D65561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con’t)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esign an Inclusive School Commun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rk toward common goa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tilize academics and extracurricular activities to create opportunities for promoting community among the administration, faculty, staff, students, and par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lk positively and openly about what the school is doing for student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3T21:29:25Z</dcterms:created>
  <dc:creator>Carl</dc:creator>
  <dc:description/>
  <dc:language>en-US</dc:language>
  <cp:lastModifiedBy>Kellie Shumack</cp:lastModifiedBy>
  <dcterms:modified xsi:type="dcterms:W3CDTF">2009-06-23T18:49:51Z</dcterms:modified>
  <cp:revision>23</cp:revision>
  <dc:subject/>
  <dc:title>Slide 1</dc:title>
</cp:coreProperties>
</file>